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0FF-BCF0-498D-8CAB-0AF4BBA3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026-0613-4D1F-9CF7-4C0EAAEC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309-EA0A-4D02-B3C5-14E3C453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ECB-CA00-4646-A3BB-D513F884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7A40-B9F7-482A-95F4-FB31423C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80B4-C6C7-4727-A0E4-7F6C09EC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480F-0116-4493-BF40-99A00F97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27E0-53CF-46EF-B493-6A830325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2F0A-582A-4C38-B792-8FA26E24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3C6D-F3AE-47E3-B90E-058E703F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5F46-ED06-49FE-93AD-AA4B6C9B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5B7-9C1A-413D-97AA-FC51C10D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B26B-9A9A-4785-BEDB-3F2C9858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761A-5D6A-4F85-96F0-D7A854E9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42CD-B3FC-41AF-9799-2F0BAD41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424B-E579-4517-BD9E-09EA0D3D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BF37-14AD-4D5D-B4F5-81C758BD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ADD2-C4FF-40EC-9042-1DA7F93F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C152-E96C-41D0-84E6-18026B72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0AA9-F21F-42C6-A4DB-7611B602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5AF3-170C-41D8-B1A9-3D4001FA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3D90D-CB50-4507-AAAC-C646D5FC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73A-B180-4F9C-AEBD-CF7AC37B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DA2C-EF18-43EB-ACB9-7D251F0C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3C39-B2AF-4A0E-ACDC-38BE125D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5830C-5A83-4265-B286-A53CA07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E350-DDDA-4659-9B42-ECF367A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E8854-653A-44AB-938D-A627909D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88EF-8EEB-47A6-A28F-DA52A595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A2A1A-2209-4825-8921-DB8EA5F5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0D5A-B268-48D6-BF63-BFFC918C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D99E-D02B-41C2-BB0F-EF3DECD0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363EB-5159-4692-B087-60CBA7FB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A5F-5FD1-4CEE-BE99-A2DD3CCF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24EF-E0CF-4D55-9C14-A8A4347B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85F4F-A1B6-4ACB-B75F-EA143256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CCD15-0CB6-45BD-B499-AF8D5228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222DF-C34D-40E1-AADE-B603687D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8C9D3-A6EF-4B3E-B56C-C95DEFCA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E8C3-A249-488A-B5C2-68E1E4AD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E65C-D42F-4B79-9699-8ED22B6B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5D52-3A92-43C2-B429-4DE7D4C5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81872-A6DC-4B69-99B1-4E24D598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D1465-D180-4178-93CF-D022B4C9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829-81D5-480D-9234-921C3E70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3ED37-B5BB-41BC-95EC-DD6920BD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4C167-FC0F-4220-A87D-B458454F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0D16-168B-4AC7-B23A-9368C616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78E52-6A37-4AED-96D5-B4406C15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688E7-4960-499C-95DB-E94F5EB1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888E0-2F3A-45C6-96D7-317CDD63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9010D-F69C-41F6-89C7-050425D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78E0-2621-493A-8D90-EAB4441D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D606D-FAD1-49D3-8407-89EF44B4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74B63-9C99-4C47-BDF3-E532F1A1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6D9-4DEA-4AE8-BEA5-050D0AFC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9C5B1-F87D-462E-B13B-34776210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DBA-4C06-44F1-965E-59DBA3EB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8FF-4059-498A-84CC-925871FD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539-F832-433E-84A7-137F0362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5078-E1BE-4A64-B395-89D3E324EB7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618F-D3E7-40B8-9D98-2956ABCA49F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71E6-2EAC-451E-A897-8AD31BB3B27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3158-B263-4FE3-A0D9-725498E863D4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1C0C-EB06-43DD-9EA7-BFFE3296718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 Allis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http://www.mega.nu/ampp/martinls/martinls314/MENGELE.JPG"/>
          <p:cNvPicPr/>
          <p:nvPr/>
        </p:nvPicPr>
        <p:blipFill>
          <a:blip r:embed="rId2"/>
          <a:stretch/>
        </p:blipFill>
        <p:spPr>
          <a:xfrm>
            <a:off x="380880" y="3733920"/>
            <a:ext cx="1981440" cy="2814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auschwitz.dk/menele.id17.ht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mengele.dk/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jewishvirtuallibrary.org/jsource/Holocaust/Mengele.htm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mindcontrolforums.com/jm-angelofdeath.ht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moreorless.au.com/killers/mengele/htm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 March 16,1911, Josef Mengele was born in Gunzburg, Germa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is the oldest of three childr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gele joined the Nazi party in 1937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went to the SS in 1938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was wounded on the Russian front in 1942.  He was unfit for dut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volunteered to go to the concentration camp, Auschwitz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t Auschwitz, Mengele was nicknamed the Angel of Death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gele was apart of the selection process when Jews arrived at camp.  He either told them to go left or right.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gele often performed experiments at Auschwitz using twin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performed operations without anesthesi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2" descr="http://3.bp.blogspot.com/_tP82lct5lSM/SoCaPEhwNrI/AAAAAAAACP8/Npg8MDXSizU/s400/mengele.jpg"/>
          <p:cNvPicPr/>
          <p:nvPr/>
        </p:nvPicPr>
        <p:blipFill>
          <a:blip r:embed="rId2"/>
          <a:stretch/>
        </p:blipFill>
        <p:spPr>
          <a:xfrm>
            <a:off x="5562720" y="3792600"/>
            <a:ext cx="2286000" cy="2846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gele did experiments using twins as young as fiv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wins were usually murdered after the experiments were over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ildren’s eyes were injected with chemicals to try to change their eye colo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n experiments were performed on twins, it did not end with the death, but rather the dissection of the corpses for medical analysi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http://www.scrapbookpages.com/auschwitzscrapbook/Mengele.jpg"/>
          <p:cNvPicPr/>
          <p:nvPr/>
        </p:nvPicPr>
        <p:blipFill>
          <a:blip r:embed="rId2"/>
          <a:stretch/>
        </p:blipFill>
        <p:spPr>
          <a:xfrm>
            <a:off x="5410080" y="3032280"/>
            <a:ext cx="2229120" cy="3568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328680" y="317520"/>
            <a:ext cx="737712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bout 1,500 sets of twins were selected for experiment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n the camp was liberated in the winter of 1945, only about 200 children were aliv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gele fled to South America and traveled form country to country, afraid of being caugh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 February 7, 1979, Mengele had a stroke while swimming in Brazil and died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was not until 1985 that the world knew of his death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6:41:06Z</dcterms:created>
  <dc:creator> </dc:creator>
  <dc:description/>
  <dc:language>en-US</dc:language>
  <cp:lastModifiedBy> </cp:lastModifiedBy>
  <dcterms:modified xsi:type="dcterms:W3CDTF">2009-11-24T17:32:09Z</dcterms:modified>
  <cp:revision>19</cp:revision>
  <dc:subject/>
  <dc:title>Slide 1</dc:title>
</cp:coreProperties>
</file>